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632-FF49-4D41-947D-0E45A07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43A-1F14-4BA8-86B1-8E8B40C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F22-F5CA-4699-9D88-2689D1D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639-F29C-487D-9926-F5B93E44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CCC-F77E-4CDB-84A2-8AE269D1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860-8FC7-425B-8A52-89C47A8B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45E-3E3E-40B4-8D33-17481D8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BA8-21A8-46C7-8302-B168297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AB8-5DAE-4D08-A403-B8C8771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B42-C837-44E3-B616-522017F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1BC-1C43-405B-AC85-C2F13D42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C3A-1169-4C84-8BB9-5B380A7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07C-164A-42D5-A242-0D42416D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advTm="20000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18:06:28Z</dcterms:created>
  <dc:creator>Bia</dc:creator>
  <dc:description/>
  <dc:language>en-US</dc:language>
  <cp:lastModifiedBy>Bia</cp:lastModifiedBy>
  <dcterms:modified xsi:type="dcterms:W3CDTF">2002-12-02T19:49:12Z</dcterms:modified>
  <cp:revision>4</cp:revision>
  <dc:subject/>
  <dc:title>Diapositiva 1</dc:title>
</cp:coreProperties>
</file>